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D832-F1EE-4A28-895C-BA0AF1652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9645-25F5-43E3-B0F1-24F52E6F7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ude death rate in switz = 9 per 1000 in sierra leone = 30 per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8ADE-67CD-4769-8BAB-F8F51E324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by bo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www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5 = bulge in 35 - 45 year ag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bulge as these boomers have k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by boom bulge is moving on through the ag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tage different pressures were put n social and economic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wded elementary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age- greater pressure on social services, medicare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1C3B-7F77-4A81-BD14-542C578FA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estimated that if Bangladesh adopted Sri Lanka’s marriage pattern families would have 2.2 fewer k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der marriage age = 40 - 50% drop in fertility to achieve ) populations growth for many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has laws about this :   marriage = age  20 for females and 22 for 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ty rate  = 5.7 in 1972 to 2.1 in 19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 = 0 pop growth by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this been achiev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98A3-7D18-4117-9ECB-A7A47C946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planning = abstinence, sterilization, the pill, contraceptive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rtion:  45 - 60 million annuall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rtion rate = # per 1000 women (in US = 2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rtion ratio = # per live births (in US = 33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2C1E-FA8D-4ABB-A25D-60B3B316F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 to generalize for different nations.  Different belief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 inn 1952 was first country with formal pop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policy for diff. Nations diff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ive out only 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so supply the material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175E-1CC9-4C79-B18F-DCE2F63A3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ing time changes quickly as growth rate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, Aust, Germ, GB = 7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= 5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exp growth would eventually deplete all the matter in the universe (pg 8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5577-32A1-41F1-8EA5-6E3646FFD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: in the US - the inflection point was assumed in the 1930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ed pop was then estimated at 200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we have 260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93D5D-7CF0-4E12-9F8C-422446EE6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nations are struggling to shift from #2to #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hieve #3 parents must believe a small family is to their bene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 industrialized country @ stage 3 could cycle through all the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 if health improvements increase for aging and chron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8102-81AE-4D2D-A6E1-2E428133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687-2A80-4D63-9E1B-FEEFCE5D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869-B65F-4662-865D-A81CFFCF4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24C-8650-418C-85E2-9825EAF9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6DBC-E935-43AC-898C-1C4C9F87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F91-DE4D-4C71-B371-23C64F23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5F7-7B81-4F47-A9D5-21450325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D60-9BC0-40AF-B194-CE8102BB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D95-3068-4FF9-826D-C30069298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8B7-2925-431E-B421-AD214ED0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2EF4-BE20-47AB-999B-B9BD19AC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194D-7CE8-4697-9DBA-F9244B43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EF28-0109-4FF7-B10A-1F45CAE56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hapter 4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Human Population as an Environmental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opulation and Technolog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2 main dan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Numb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mpact of each per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I = 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Past: local and not long last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Today: Not local and long last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59659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752480" y="609588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g. 6.15 This figure shows population profiles for developed and developing countries, projected to the year 20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828800" y="274320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d living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V="1">
            <a:off x="2971800" y="30477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943600" y="2438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"/>
          <p:cNvSpPr/>
          <p:nvPr/>
        </p:nvSpPr>
        <p:spPr>
          <a:xfrm flipH="1">
            <a:off x="617184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-3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240"/>
            <a:ext cx="80773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cute or epidemic dise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f a problem in develop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hronic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f a problem in developed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81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3808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ge stru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proportion of the pop. that is in each ag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Typical Pyramids"/>
          <p:cNvPicPr/>
          <p:nvPr/>
        </p:nvPicPr>
        <p:blipFill>
          <a:blip r:embed="rId1"/>
          <a:stretch/>
        </p:blipFill>
        <p:spPr>
          <a:xfrm>
            <a:off x="380880" y="457200"/>
            <a:ext cx="8534520" cy="61516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09480" y="457200"/>
            <a:ext cx="8305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women in their childbearing years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ojected to increase through 20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children per woman (TFR) is declining but….. 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he absolute number of babies being born continues to increase because of the increases in the total number of women of childbearing 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How to  Slow Population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st and most effective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lay marri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lay the onset of having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ducate and raise 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81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45820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irth Control in Develop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Breast fee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amily plan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bor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-3819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3808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ational Pro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untries have some official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policy.  Effectivenes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57200" y="56707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Developing countr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present a larger and larger share of world population because of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higher populations and higher birth rat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>
            <a:off x="4267080" y="1600200"/>
            <a:ext cx="365760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6600"/>
                </a:solidFill>
                <a:uFillTx/>
                <a:latin typeface="Arial"/>
              </a:rPr>
              <a:t>BIG PLAYERS IN THE FUTUR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648320" y="1905120"/>
            <a:ext cx="3504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eet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Ec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eop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1752480" y="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82400"/>
                </a:solidFill>
                <a:latin typeface="Times New Roman"/>
              </a:rPr>
              <a:t>For most of human history, population grew slowly, but in modern times it has  suddenly "exploded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19320" y="6248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 flipV="1">
            <a:off x="1600200" y="5638320"/>
            <a:ext cx="304920" cy="6858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581280" y="3809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Industrial r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4952880" y="4191120"/>
            <a:ext cx="0" cy="11430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Projecting Population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8229600" cy="5867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oubling ti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assume exp.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70/annual growth rate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ed the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Rule of 70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sensitive to growth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324480" y="640080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228600"/>
            <a:ext cx="5334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82400"/>
                </a:solidFill>
                <a:latin typeface="Arial"/>
              </a:rPr>
              <a:t>Doubling time changes rapidly with the population grow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at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5_6"/>
          <p:cNvPicPr/>
          <p:nvPr/>
        </p:nvPicPr>
        <p:blipFill>
          <a:blip r:embed="rId1"/>
          <a:stretch/>
        </p:blipFill>
        <p:spPr>
          <a:xfrm>
            <a:off x="1905120" y="1371600"/>
            <a:ext cx="6095880" cy="5116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7" name="Text Box 5"/>
          <p:cNvSpPr/>
          <p:nvPr/>
        </p:nvSpPr>
        <p:spPr>
          <a:xfrm>
            <a:off x="228600" y="44956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less time to double if high growth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ulation Doubling Time Exampl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-7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533520"/>
            <a:ext cx="838224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edicting HP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int at which logistic the pop grow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e begins to slow toward carry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is called the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flection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probably not there 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6600"/>
                </a:solidFill>
                <a:uFillTx/>
                <a:latin typeface="Arial"/>
              </a:rPr>
              <a:t>The Demographic 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stage pattern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eads to dec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n growth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style Improvement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Pop. still grow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Birth rate dro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4:46:49Z</dcterms:created>
  <dc:creator>Amy Chan</dc:creator>
  <dc:description/>
  <dc:language>en-US</dc:language>
  <cp:lastModifiedBy>infosys</cp:lastModifiedBy>
  <dcterms:modified xsi:type="dcterms:W3CDTF">2016-09-08T19:11:12Z</dcterms:modified>
  <cp:revision>49</cp:revision>
  <dc:subject/>
  <dc:title>Chapter 5 - Human Population as an Environmental Problem</dc:title>
</cp:coreProperties>
</file>